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57A-7216-4EAA-BFAC-51802F63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5EC-4A55-48E3-A091-60CAA33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F09-F665-4B1F-A16F-48A923E6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D17-5F7B-4E9B-8BD0-F173EFED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41D2-F79F-4E1D-974F-A5FFF0E9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F151-6C9E-44BF-AD80-9AC3EA32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E76-3FDC-4F37-B8A8-C17B0DC0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3AEC-9391-4D95-A78E-C47F5BD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BC4-33AC-4C7D-9359-C2CDD267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0546-6F5C-440F-BA89-09C9B829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19CC-9322-4128-9887-DAF2FEC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20F-E8DA-4F79-AE93-7433AE6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D829-EDC0-4ED5-B440-3F49080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95E2-5A21-48E0-919D-A1D8C8F9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401-C8B2-4F34-A60C-18778779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74DC-043C-497A-9C4C-AB8AA523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5A02-1450-4CF7-A412-FF795564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002-A202-4940-91AC-AD0EBE41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893-6279-4E4F-A735-EA1B1F74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F5F-301C-44B4-94BF-D4207B38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D3E-6154-4CBC-9FFA-1264DB6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12E-6E60-45F7-B68D-76BB0C2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758-863D-4C7E-8055-448A4C5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8FE-17B8-4B9B-9C75-F10A973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CDFD-A107-4ACF-92FF-7601527D7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735-0A8F-48B9-8892-B439E8EAA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23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The Final Project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752480"/>
            <a:ext cx="7696080" cy="475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one of the following and wr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flection about how you can apply what you’ve learn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articles we haven’t read from the Wikispace home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s and quizzes on Co-teaching Models from Session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s in the Motivation Resource Packet from Session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hecklist for Final Proj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rough the checklist for your final projec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 need to post the following pieces on your Session 9 Wikispace p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less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 “Co-Teaching Planning Form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accommodated activity or assess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w to Add File: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3772080" cy="475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)  Click the white “Edit This Page” box at the top of the pag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)  Click the icon called “File” that has a green picture next to i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)  Click the gray box on the right side labeled “+ Upload Files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)  Choose the file and click “Open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)  Give it a minute to load.  Your file should appear in the white list on the left sid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)  Double click on the file you want to ad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7)  Drag the gray box with your file name to the place you want the file on your pag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8)  Click the gray “Save” button in the upper right corner.  You should be all set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ractice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practice adding a file to the test p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Closure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798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lect on the followin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about a lesson you’re teaching tomorrow.  What could you apply to that lesson that you’ve learned from this cla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09:17Z</dcterms:created>
  <dc:creator>fcps</dc:creator>
  <dc:description/>
  <dc:language>en-US</dc:language>
  <cp:lastModifiedBy>fcps</cp:lastModifiedBy>
  <dcterms:modified xsi:type="dcterms:W3CDTF">2011-05-09T16:03:21Z</dcterms:modified>
  <cp:revision>7</cp:revision>
  <dc:subject/>
  <dc:title>The Final Project</dc:title>
</cp:coreProperties>
</file>